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95F-CA70-4DE3-A78E-48A0FC27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C34-A934-4252-B6D4-164BCD7E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3AF-291E-43A1-BA29-B2EB6B40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A4B-5ED8-400C-9AE0-D4CCBAA0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9C89-C2C2-4082-9F27-F3C682AB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D93A-06E7-442C-A4A7-8520C866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0C71-D888-4817-86EB-DBE189E6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AF37-4C3B-42E7-8708-CF7FDBCD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F0B1-E493-4B5C-B73E-70E80F5E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60FD-E050-4A65-A13C-D63E0B7A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2BE5-0A64-4514-B254-D9F79BE4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491-10B8-4836-B809-F3A5E70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FD94-2B4B-48DA-BA21-CE7CE6B5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7B60-3679-4458-B27E-1FA90528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7FA9-C034-42B0-A3D1-5B237116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7002-5073-49EE-A761-E3FFD46C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EC1B-04BD-434A-A1D1-519CC2F4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32D-53BF-4135-8326-54C3DCC0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1F3-6E9C-4B8F-9AB0-DF4C2344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AA8-8013-4A27-8A94-1C3EFC11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63E-978C-4876-A5CF-A701BF6C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5D2-AD32-4A21-BAFB-50E3F6DB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6DC-FF9F-4312-92FF-EF78BD0A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1C1-77DC-4C48-8660-2596AB25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F3C1-E2DC-4767-861D-50DC42177F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BA3E-E849-45C9-9A1D-A5B2EB1281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сберечь свое здоровь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кровотеч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пиллярноетемно-красный цвет крови, истекание крови небольшой струйкой,  редко угрожает жизни и здоровью пострадавшего человека прекращается самостоятельн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териальное- пульсирующее струйное истечение крови из раны, цвет крови имеет ярко-алый оттенок. Опасенн для жизни пострадавшего, т.к. стремительно приводит к наступлению полного обескровливания организма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нозное-медленное, но непрерывное истекание крови из раны. Кровь имеет темно-красный цве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&amp;Vcy;&amp;icy;&amp;dcy;&amp;ycy; &amp;kcy;&amp;rcy;&amp;ocy;&amp;vcy;&amp;ocy;&amp;tcy;&amp;iecy;&amp;chcy;&amp;iecy;&amp;ncy;&amp;icy;&amp;jcy;"/>
          <p:cNvPicPr/>
          <p:nvPr/>
        </p:nvPicPr>
        <p:blipFill>
          <a:blip r:embed="rId1"/>
          <a:stretch/>
        </p:blipFill>
        <p:spPr>
          <a:xfrm>
            <a:off x="6516720" y="189000"/>
            <a:ext cx="22860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ры оказания первой помощи при кровотечения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енозном кровотечении значительной сил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еобходимо срочно пережать поврежденный сосуд с помощью любого подручного средства (можно даже при помощи пальца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случае артериального кровотеч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ложить жгут( не более чем на 2 час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сех видах кровотеч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авящая стерильная повязка, хол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&amp;Pcy;&amp;iecy;&amp;rcy;&amp;vcy;&amp;acy;&amp;yacy; &amp;pcy;&amp;ocy;&amp;mcy;&amp;ocy;&amp;shchcy;&amp;softcy; &amp;pcy;&amp;rcy;&amp;icy; &amp;kcy;&amp;rcy;&amp;ocy;&amp;vcy;&amp;ocy;&amp;tcy;&amp;iecy;&amp;chcy;&amp;iecy;&amp;ncy;&amp;icy;&amp;icy;"/>
          <p:cNvPicPr/>
          <p:nvPr/>
        </p:nvPicPr>
        <p:blipFill>
          <a:blip r:embed="rId1"/>
          <a:stretch/>
        </p:blipFill>
        <p:spPr>
          <a:xfrm>
            <a:off x="6372360" y="3500280"/>
            <a:ext cx="228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пловой и солнечный уда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Легкая степен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ая слабост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ловная бол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шнот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щения пульса и дых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ширение зрач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Меры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ынести из зоны перегревания, оказать помощь (см. раздел "Доврачебная помощь"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     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Тяжелая форм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теплового удара развивается внезапно. Лицо краснеет, позже бледно-цианотичное, потеря сознания, повышение температура тела до 41 - 42 С, случаи внезапной смерти. Летальность 20 - 30%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Признаки теплового и солнечного ударо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ловокружени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ловная боль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ащенное сердцебиени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ошнот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олодный пот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раснение кожных покровов лиц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падок си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СРОЧНО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Устранить тепловое воздейств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далить пострадавшего из зоны перегре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ложить на открытой площадке в тен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дыхание паров нашатырного спирта с ват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свободить от верхней одеж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мачивание лица холодной водой, похлопывание по груди мокрым полотенц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ложить на голову пузырь с холодной водо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астое опахив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звать бригаду скорой помощ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26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22160" y="292428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врачебная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320" y="476280"/>
            <a:ext cx="4990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Доврачебная помощ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рвая помощь при обморожен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знаки и симптомы обморож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теря чувствительно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щущение покалывания или пощипыв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беление ко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1 степень обморож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лдыр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2 степень обморожения (видно только после отогревания, возможно проявление через 6-12 часов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емнение и отмир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3 степень обморожения (видно только после отогревания, возможно проявление через 6-12 часов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его НЕ делать при обморожен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&amp;Ocy;&amp;bcy;&amp;mcy;&amp;ocy;&amp;rcy;&amp;ocy;&amp;zhcy;&amp;iecy;&amp;ncy;&amp;icy;&amp;iecy; &amp;khcy;&amp;ocy;&amp;lcy;&amp;ocy;&amp;dcy;"/>
          <p:cNvPicPr/>
          <p:nvPr/>
        </p:nvPicPr>
        <p:blipFill>
          <a:blip r:embed="rId1"/>
          <a:stretch/>
        </p:blipFill>
        <p:spPr>
          <a:xfrm>
            <a:off x="7236000" y="260280"/>
            <a:ext cx="148572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&amp;Pcy;&amp;iecy;&amp;rcy;&amp;vcy;&amp;acy;&amp;yacy; &amp;pcy;&amp;ocy;&amp;mcy;&amp;ocy;&amp;shchcy;&amp;softcy; &amp;pcy;&amp;rcy;&amp;icy; &amp;ocy;&amp;scy;&amp;tcy;&amp;rcy;&amp;ocy;&amp;jcy; &amp;bcy;&amp;ocy;&amp;lcy;&amp;icy; &amp;vcy; &amp;ocy;&amp;bcy;&amp;lcy;&amp;acy;&amp;scy;&amp;tcy;&amp;icy; &amp;scy;&amp;iecy;&amp;rcy;&amp;dcy;&amp;tscy;&amp;acy;"/>
          <p:cNvPicPr/>
          <p:nvPr/>
        </p:nvPicPr>
        <p:blipFill>
          <a:blip r:embed="rId2"/>
          <a:stretch/>
        </p:blipFill>
        <p:spPr>
          <a:xfrm>
            <a:off x="0" y="4941720"/>
            <a:ext cx="2050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Первая помощь при обморожении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бра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 холода (на морозе растирать и греть бесполезно и опасно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закры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ухой повязкой (для уменьшения скорости отогревания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едленно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огревание в помещен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бильное тепло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и сладкое питье (согреваем изнутри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ельзя при обморожен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гнорирова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тирать (это приводит к омертвению кожи и появлению белых пятен на коже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гревать резк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ть спиртно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ав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ломы-это нарушение целостности ко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иды перелом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ыт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ыт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242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03640" y="3068640"/>
            <a:ext cx="35150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рвая помощь при перелом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еспечение спокойного и наиболее удобного положения для поврежденной конечности, что достигается полной ее неподвижнос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ложить холод (резиновый пузырь со льдом или холодной водой, холодные примочки и т.п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ложить шин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править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9:26:04Z</dcterms:created>
  <dc:creator>user</dc:creator>
  <dc:description/>
  <dc:language>en-US</dc:language>
  <cp:lastModifiedBy>user</cp:lastModifiedBy>
  <dcterms:modified xsi:type="dcterms:W3CDTF">2013-04-23T07:40:51Z</dcterms:modified>
  <cp:revision>9</cp:revision>
  <dc:subject/>
  <dc:title>Как сберечь свое здоровье.</dc:title>
</cp:coreProperties>
</file>